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8.jpeg" ContentType="image/jpeg"/>
  <Override PartName="/ppt/media/image37.png" ContentType="image/png"/>
  <Override PartName="/ppt/media/image7.png" ContentType="image/png"/>
  <Override PartName="/ppt/media/image15.wmf" ContentType="image/x-wmf"/>
  <Override PartName="/ppt/media/image12.png" ContentType="image/png"/>
  <Override PartName="/ppt/media/image23.png" ContentType="image/png"/>
  <Override PartName="/ppt/media/image13.jpeg" ContentType="image/jpeg"/>
  <Override PartName="/ppt/media/image8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B133-749D-4C3E-B77F-1DF78579EF38}" type="slidenum"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726E-F581-4EF3-AC7F-2A5B4AB28CEC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C5D3-1E06-463A-A0F7-17F558B97269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-based or politically-driven definition?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es with management o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FBF-FE48-4BFB-B9A9-C97793B6AA9D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Септември 2015, Генералното Собрание на ОН ја усвои Агендата за одржлив развој до 2030 и 17те Цели за одржлив развој и 169 под цели или тарге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CD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е агенција одговорна за под цел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5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0F7E-CEDB-46B1-85FA-AC0DEF4B52BB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одуктивното земјиште 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ироден лек за голем број сериозни проблем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 што се обезбедувањето на храна и недостатокот на во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стои дирекната врска помеѓ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DGs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во областа на сиромаштијата, обезбедувањето на храна, заштита на животната средина и одржливо користење на природните ресурс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мплементирањето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создава повеќекратни бенефити и има директен придонес за остварување на овие и друг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DGs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имер за поврзаноста на земјиштето и климатските промени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обрувањето на состојбата на земјиштето може да помогне во зголемување на Националните придонеси за климатски промени во рамки на  Договорот од Пари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 да го затвори преостанатиот јаз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p)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на емиси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1BB-7339-4E0A-96F4-B0E7E5C69ED3}" type="slidenum">
              <a:rPr b="0" lang="it-IT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Главната одлука з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е донесен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COP 12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– Анкара 2015 г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95FD-4324-475D-A728-218EF81E669D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Методологијата е тестирана во 14 земји. Научени лекции и подобрена методолог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FEE8-A06C-49BE-AAF5-0A32AC462EEA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and Policy Interface (SPI)  -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Независно научно советодавно тело 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CCD (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PCC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за климатски про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готви Концептуална рамка з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што е основа за подобрување на методологиј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9516-0F9C-428F-9A09-68FAB4DF3951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рограмата за поставување на целите за постигнување на неутралност на деградацијата на земјиштето е глобална програма на ГЕФ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оја се имплементира пре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UCN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 и Глобалниот Механизам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UNCC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До дене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, 104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земји се приклучија кон програм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стата претставува едногодиш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раткороч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дршка на земјите кои изразија интерес да бидат дел од програма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Поддршката опфаќ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консултантски услуг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обезбедување подато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организирање на 3 работилниц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и патување во земјата, методолошка поддрш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F4B4-6736-4A03-B792-D20BB80364BB}" type="slidenum">
              <a:rPr b="0" lang="en-US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FAD-4B7B-418E-BBD3-1E6B02D0D970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Calibri"/>
              </a:rPr>
              <a:t>Временска рамка 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DN-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6318-77C1-4CE5-9860-29BBC4DB1D46}" type="slidenum">
              <a:rPr b="0" lang="de-DE" sz="12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C234-520D-4F3A-8378-F6CCCF1B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5FCA5-720B-46CA-BFF4-FF8E9C8C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13976-C3BC-464C-9406-0A2B68DC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82AE2-4453-4099-BF82-B2A28EB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52C0C-D1C2-44D9-9873-2686BBC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8934-A7CF-437E-B248-8C2760CE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50796-75D5-46A7-B2B7-3D8D9DF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A21F1-9E95-4114-B2E1-E29F7468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082F-9433-48BE-89EB-EA5DB5E9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C070A-03DC-4DA4-BCA8-7D230CA4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EB6B3-8F7D-46FA-84FF-35D3FA1B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5ADDE-6535-4C22-9CD9-0D09179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8E6B3-6A98-47CE-9ECD-DAAB7D39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402DA-5364-46FD-9617-81D2AC9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A5309-284D-4F8F-A928-ADEE5CC4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73AE-F7B1-42D5-B083-E7C2E5C2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39DF3-2DFA-4C16-B592-02AD0388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A9701-F4C0-4CD1-A0FD-A9F5561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5E00-0F2B-46A4-8587-A05FF5DF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7E36-773C-41FD-969F-6E8AB48B7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C9E60-F768-421E-AFE5-5EA897CF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1CFCC-2A2F-4AA1-8C0F-2F5A0209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7F6F8-A702-442B-BEA2-62C8E7C8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5623E-220B-466F-B672-4DF6C6B1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2B75E-AD60-400E-BEC1-5C9833B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5B115-AF0E-4957-B625-EA1C1F2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B7437-27A8-412E-AF59-636C4158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233A4-69AA-4B6C-AE93-B80B06A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661AB-29AA-44B1-BD7C-7A3275B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07B79-4D4F-4A70-B8CF-C15277DC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288-4C6A-4802-B6D9-2E74EA9E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EB2E0-7064-4A0C-B708-31C93AA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B2DA8-A66F-4CC7-A88B-7611D395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51B66-2270-425C-BED3-352BE7D1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D44D-817A-48A1-AC9A-B953691F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92C8B-58A4-4892-91E7-0700C18D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21B07-21D3-47F8-87E0-2F53AC67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66F6-F2EC-4721-AA15-DF3E9167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B6872-CEC9-4FB1-A904-58BAF14E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564F5-7E73-4667-A6DD-FC48B683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D6EFE-A1ED-4AC8-9C22-CA2CEE4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063-E5ED-490B-979F-273E5A95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70F96-55C1-4FEE-8ADC-3C260309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4391B-A8E4-4D6B-A00A-535C181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86E4F-45F3-4B32-94B1-573D484B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8044F-89FE-42C2-8D14-EDFB9E44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BF54F7-5496-4141-9E98-D165B17A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C088B-4A48-4ACF-9F6B-933E5E56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29543-7CE6-4A3D-A3E9-B73DD7D6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95D7F-773E-4CE6-8C90-40F7061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736A6-09AB-4E4A-8273-E8AD3AA0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DABAD5-3AF2-4B9A-97A6-572A2B5C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6C3-BE68-4249-951D-904B2908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5FBE6D-5F2E-45D4-B845-C5DC9DE0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91B49-2B0E-44A8-910B-E6058FC4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BDD91-36DF-4197-A5B1-EA24C9F9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599F4-29C5-4E92-8CEB-53B264B0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63A82-5D28-4869-95C1-48807D3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5268B-79A7-49DA-8141-ABB1EC63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AA4C3-4955-4C24-901D-6066C1DF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9BA-03CD-4FA3-ADA0-557F0611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112-EA96-46FF-8FF1-5FF1C5C9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7C4-CF8F-470F-8AB6-4246B0A4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21A-BC45-4B2E-9351-EB19500C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F660-33B3-41A8-8452-F32247F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C64-41D3-439A-BDDA-684724F8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D26-0B32-46D4-A82C-FF0F74B0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7E9C-416A-4F7C-9883-03B2D9D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21A-B7E5-42D0-BF41-16F9B202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190-3654-41DB-BE80-08061F1D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3787-ED51-4E25-BC9F-D45B1585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C4C2-ECB4-44A0-A1B1-9103B244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B2CE-4569-45A8-97AA-BAAA283F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40B6-949F-4854-82FE-459D58F5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3464-A9A8-428E-A05D-883E561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F5F4-33E3-4DA9-8B5A-677941DD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EBF3-96DC-4F93-A1A4-3BF39A84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8A70-14C6-4C0E-99F4-11B87D20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0289-955C-4D5C-B07F-8465269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EC02-59CF-41C2-AF79-1F2E82B1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EC01-1879-44CB-AFFF-D7351855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98838-55E6-402E-B275-6D86BE3B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19DB-786A-438D-9570-5EA06231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9A57F-D8FD-4FD6-87EB-75281381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DCFD3-3638-4218-BB2C-90318109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A1BE0-D57E-4164-9E14-C889A197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FBAFB-881A-4CF4-B7BD-7D80C100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24C5-28B9-477E-B6F4-0BA8142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F7C43-4170-40D9-9D15-F81D836A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08A8-8656-4417-94F1-F16AF942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7530-B038-469A-9DAB-7594BA43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722A-2D2F-4F7F-B0AD-9F1C591F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21DD4-A505-440D-A5DF-02161F4E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6D093-15AD-4FE5-8B80-FFFA942D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94A64-18A8-48C4-BEBB-BC8F3D06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D663C-E0AF-4199-97F6-CA44068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9890-73B3-4903-91F5-EB88CE2C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A4834-E070-46D5-8AB7-BDD9AB42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A18D5-E9A5-4596-92E3-4744C9A5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F869-3731-4085-8FCA-DF23DA59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9D353-86EA-4C45-8165-0BD16513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C4298-C4E0-4F43-9BA9-ABED8CD4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A23A9-ED70-46F4-824E-7C8081F3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DFEF5-61EA-4233-B058-661EB86A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54AB-3A5B-4DE5-8D5B-552BCE3F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94E62-529F-414D-B6C9-56D48A84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0A0D2-43D8-4995-90E2-D8FD02CD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C7B9-DAA3-4F58-B083-2C325135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16C7C-F98A-448C-B788-7D44672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5A67-3F15-4FF7-9040-3CAD727B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65CA-52CF-4E1F-88F2-5155BCC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CC140-4530-4536-B50C-8F62A93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9710E-3C9D-4598-84A0-CABAE267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B609B-031F-41F8-8BBD-35816988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BDA7D-6B34-46F5-B061-5C277EB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824BF-5768-4319-B2E0-D7D2CF24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67AB8-ECFC-4191-B95A-60E4854B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4E5D-61EE-4C41-99E6-F17E54B0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5493-5174-4385-9512-6D6DC0B0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7659E-1D9C-4A59-8953-1756BF21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F521B-8BB7-43E4-8765-9627F946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4B83-09A4-43FD-8771-BC572EA9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EABCA-3D02-4DD8-9AC8-14ED7E08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5B091-9A5F-4D02-A0A0-A78476E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712BC-98C2-4751-A17D-F289B52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5E00B-6213-43D5-9593-D4A8441A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AA80B-970B-42E6-9750-7873B031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634B1-9110-4FC8-A1B4-0DD3C32C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FA09-2316-48D2-9E27-D0F1CCCD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6A2A-B60A-41ED-BB0C-8207554F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E4260-93AC-4AAB-A412-3C29524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0F668-C92C-49FF-BC96-4B39A273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D352-7422-46A7-B601-FCDF6BF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3EAE-311C-467F-B547-05EC6919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953F3-D4CC-488E-80D0-C1762FE1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AF06E-85DD-4EC4-977B-9D89150F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781CC-4453-4F9F-A4F9-E9888149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9B74-7CF6-4D7B-8EC9-3F277012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0497-46E5-4682-8DB1-2490FFB9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AE615-471A-4E87-8AE6-5B08A981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281F-3E0C-4A21-BE9B-B614C8D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EF2AE-AB86-40AC-A9F1-8D493EBA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57EAD-A220-43EA-A016-7754AB70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FDEE8-E31C-4206-BBC5-5FE594C4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479A-E110-4F23-93AB-5119DFCB1C3F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4AE7-6FC2-4AA7-B21A-63A571FEE9D2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D74-446A-47A6-8641-41BEDD298AD8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0DC5-CC87-4ED5-B048-5523EDA63260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DED4-4C77-4893-9BB8-779A207E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E75E-2567-41E7-B91A-9523D0CFC1F8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1D5-4844-455B-BE24-F85127F1ED03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F9ED-A775-4C4F-A2B0-3657A09A102B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264-708E-4DEA-A765-65775DCF4910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2819-FA35-41AF-AE5E-764BC6564FAC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68A8-399B-43B2-AEFB-3FFEC922CEA4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Franklin Gothic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E82E-7E5E-46C4-8BEE-9492EE4C243F}" type="slidenum">
              <a:rPr b="0" lang="en-US" sz="1200" spc="-1" strike="noStrike">
                <a:solidFill>
                  <a:srgbClr val="898989"/>
                </a:solidFill>
                <a:latin typeface="Franklin Gothic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jpeg"/><Relationship Id="rId10" Type="http://schemas.openxmlformats.org/officeDocument/2006/relationships/image" Target="../media/image32.png"/><Relationship Id="rId11" Type="http://schemas.openxmlformats.org/officeDocument/2006/relationships/image" Target="../media/image33.jpe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6.png"/><Relationship Id="rId7" Type="http://schemas.openxmlformats.org/officeDocument/2006/relationships/image" Target="../media/image31.jpeg"/><Relationship Id="rId8" Type="http://schemas.openxmlformats.org/officeDocument/2006/relationships/image" Target="../media/image32.pn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0" y="-735120"/>
            <a:ext cx="9144000" cy="495612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1619280" y="4221000"/>
            <a:ext cx="70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4000" spc="-1" strike="noStrike">
                <a:solidFill>
                  <a:srgbClr val="006600"/>
                </a:solidFill>
                <a:latin typeface="Franklin Gothic Medium Cond"/>
              </a:rPr>
              <a:t>Неутралност на деградација на земјиштето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75" name="Group 3"/>
          <p:cNvGrpSpPr/>
          <p:nvPr/>
        </p:nvGrpSpPr>
        <p:grpSpPr>
          <a:xfrm>
            <a:off x="5668920" y="5126040"/>
            <a:ext cx="3301920" cy="1541520"/>
            <a:chOff x="5668920" y="5126040"/>
            <a:chExt cx="3301920" cy="1541520"/>
          </a:xfrm>
        </p:grpSpPr>
        <p:pic>
          <p:nvPicPr>
            <p:cNvPr id="576" name="Picture 18" descr="Açıklama: CEM Logo İng"/>
            <p:cNvPicPr/>
            <p:nvPr/>
          </p:nvPicPr>
          <p:blipFill>
            <a:blip r:embed="rId2"/>
            <a:stretch/>
          </p:blipFill>
          <p:spPr>
            <a:xfrm>
              <a:off x="7741440" y="6038640"/>
              <a:ext cx="769320" cy="59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19" descr=""/>
            <p:cNvPicPr/>
            <p:nvPr/>
          </p:nvPicPr>
          <p:blipFill>
            <a:blip r:embed="rId3"/>
            <a:stretch/>
          </p:blipFill>
          <p:spPr>
            <a:xfrm>
              <a:off x="6238800" y="5882400"/>
              <a:ext cx="5374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20" descr=""/>
            <p:cNvPicPr/>
            <p:nvPr/>
          </p:nvPicPr>
          <p:blipFill>
            <a:blip r:embed="rId4"/>
            <a:stretch/>
          </p:blipFill>
          <p:spPr>
            <a:xfrm>
              <a:off x="6859440" y="5938560"/>
              <a:ext cx="932760" cy="71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1" descr=""/>
            <p:cNvPicPr/>
            <p:nvPr/>
          </p:nvPicPr>
          <p:blipFill>
            <a:blip r:embed="rId5"/>
            <a:stretch/>
          </p:blipFill>
          <p:spPr>
            <a:xfrm>
              <a:off x="5668920" y="5150160"/>
              <a:ext cx="60732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22" descr="https://www.thegef.org/gef/sites/thegef.org/files/Images/25ylogoshort-01.png"/>
            <p:cNvPicPr/>
            <p:nvPr/>
          </p:nvPicPr>
          <p:blipFill>
            <a:blip r:embed="rId6"/>
            <a:stretch/>
          </p:blipFill>
          <p:spPr>
            <a:xfrm>
              <a:off x="6381360" y="5172840"/>
              <a:ext cx="870480" cy="63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23" descr="UNEP Logo"/>
            <p:cNvPicPr/>
            <p:nvPr/>
          </p:nvPicPr>
          <p:blipFill>
            <a:blip r:embed="rId7"/>
            <a:stretch/>
          </p:blipFill>
          <p:spPr>
            <a:xfrm>
              <a:off x="7378920" y="5206320"/>
              <a:ext cx="5090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24" descr=""/>
            <p:cNvPicPr/>
            <p:nvPr/>
          </p:nvPicPr>
          <p:blipFill>
            <a:blip r:embed="rId8"/>
            <a:stretch/>
          </p:blipFill>
          <p:spPr>
            <a:xfrm>
              <a:off x="5724360" y="6023520"/>
              <a:ext cx="49608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25" descr=""/>
            <p:cNvPicPr/>
            <p:nvPr/>
          </p:nvPicPr>
          <p:blipFill>
            <a:blip r:embed="rId9"/>
            <a:stretch/>
          </p:blipFill>
          <p:spPr>
            <a:xfrm>
              <a:off x="8075880" y="5126040"/>
              <a:ext cx="43524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26" descr="C:\Users\User\AppData\Local\Temp\Rar$DIa0.165\ANKARA GIRISIM1 ing.jpg"/>
            <p:cNvPicPr/>
            <p:nvPr/>
          </p:nvPicPr>
          <p:blipFill>
            <a:blip r:embed="rId10"/>
            <a:stretch/>
          </p:blipFill>
          <p:spPr>
            <a:xfrm>
              <a:off x="8434800" y="5953680"/>
              <a:ext cx="536040" cy="52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5" name="Picture 3" descr="C:\Users\ANNAGY~1\AppData\Local\Temp\notesE038F8\logo_linear_colour options-08.png"/>
          <p:cNvPicPr/>
          <p:nvPr/>
        </p:nvPicPr>
        <p:blipFill>
          <a:blip r:embed="rId11"/>
          <a:stretch/>
        </p:blipFill>
        <p:spPr>
          <a:xfrm>
            <a:off x="541440" y="5126040"/>
            <a:ext cx="394956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3" descr="C:\Users\Annagylyjova\Desktop\logo.png"/>
          <p:cNvPicPr/>
          <p:nvPr/>
        </p:nvPicPr>
        <p:blipFill>
          <a:blip r:embed="rId1"/>
          <a:stretch/>
        </p:blipFill>
        <p:spPr>
          <a:xfrm>
            <a:off x="623880" y="49212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646" name="TextBox 2"/>
          <p:cNvSpPr/>
          <p:nvPr/>
        </p:nvSpPr>
        <p:spPr>
          <a:xfrm>
            <a:off x="480960" y="3916440"/>
            <a:ext cx="80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Земјите членк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Ќе ја усвојат новат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UNCCD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Стратегиј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2018 -2030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ретставување н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на сегментот на високо ниво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Ќе се претстават резултатите и поделат искуствата за поставувањето на волонтерските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8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49" name="Picture 9" descr=""/>
          <p:cNvPicPr/>
          <p:nvPr/>
        </p:nvPicPr>
        <p:blipFill>
          <a:blip r:embed="rId2"/>
          <a:stretch/>
        </p:blipFill>
        <p:spPr>
          <a:xfrm>
            <a:off x="5132520" y="741240"/>
            <a:ext cx="3189240" cy="1878120"/>
          </a:xfrm>
          <a:prstGeom prst="rect">
            <a:avLst/>
          </a:prstGeom>
          <a:ln w="0">
            <a:noFill/>
          </a:ln>
        </p:spPr>
      </p:pic>
      <p:sp>
        <p:nvSpPr>
          <p:cNvPr id="650" name="TextBox 5"/>
          <p:cNvSpPr/>
          <p:nvPr/>
        </p:nvSpPr>
        <p:spPr>
          <a:xfrm>
            <a:off x="4643280" y="27162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COP13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Ордос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,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Монголија,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Ки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4-15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Септемвр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2017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1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-30240"/>
            <a:ext cx="2340000" cy="808200"/>
          </a:xfrm>
          <a:prstGeom prst="rect">
            <a:avLst/>
          </a:prstGeom>
          <a:ln w="0">
            <a:noFill/>
          </a:ln>
        </p:spPr>
      </p:pic>
      <p:sp>
        <p:nvSpPr>
          <p:cNvPr id="652" name="Right Arrow 1"/>
          <p:cNvSpPr/>
          <p:nvPr/>
        </p:nvSpPr>
        <p:spPr>
          <a:xfrm>
            <a:off x="3419640" y="1681200"/>
            <a:ext cx="1223640" cy="5954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0" y="0"/>
            <a:ext cx="4495680" cy="6858000"/>
          </a:xfrm>
          <a:prstGeom prst="rect">
            <a:avLst/>
          </a:prstGeom>
          <a:solidFill>
            <a:srgbClr val="008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250920" y="268128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3600" spc="-1" strike="noStrike">
                <a:solidFill>
                  <a:srgbClr val="ffffff"/>
                </a:solidFill>
                <a:latin typeface="Franklin Gothic Demi"/>
              </a:rPr>
              <a:t>ВИ БЛАГОДАРАМ</a:t>
            </a:r>
            <a:r>
              <a:rPr b="0" lang="en-US" sz="3600" spc="-1" strike="noStrike">
                <a:solidFill>
                  <a:srgbClr val="ffffff"/>
                </a:solidFill>
                <a:latin typeface="Franklin Gothic Dem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6" name="Picture 16" descr="C:\Documents and Settings\voigt\Desktop\UNCCD Logo UN Logo_white rgb.png"/>
          <p:cNvPicPr/>
          <p:nvPr/>
        </p:nvPicPr>
        <p:blipFill>
          <a:blip r:embed="rId1"/>
          <a:stretch/>
        </p:blipFill>
        <p:spPr>
          <a:xfrm>
            <a:off x="7543800" y="304920"/>
            <a:ext cx="1262160" cy="558720"/>
          </a:xfrm>
          <a:prstGeom prst="rect">
            <a:avLst/>
          </a:prstGeom>
          <a:ln w="0">
            <a:noFill/>
          </a:ln>
        </p:spPr>
      </p:pic>
      <p:sp>
        <p:nvSpPr>
          <p:cNvPr id="657" name="TextBox 2"/>
          <p:cNvSpPr/>
          <p:nvPr/>
        </p:nvSpPr>
        <p:spPr>
          <a:xfrm>
            <a:off x="4643280" y="5877000"/>
            <a:ext cx="416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WWW.UNCCD.INT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58" name="Picture 3" descr="C:\Users\ANNAGY~1\AppData\Local\Temp\notesE038F8\logo_linear_colour options-08.png"/>
          <p:cNvPicPr/>
          <p:nvPr/>
        </p:nvPicPr>
        <p:blipFill>
          <a:blip r:embed="rId2"/>
          <a:stretch/>
        </p:blipFill>
        <p:spPr>
          <a:xfrm>
            <a:off x="679752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7" name="AutoShape 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88" name="Picture 7" descr=""/>
          <p:cNvPicPr/>
          <p:nvPr/>
        </p:nvPicPr>
        <p:blipFill>
          <a:blip r:embed="rId1"/>
          <a:stretch/>
        </p:blipFill>
        <p:spPr>
          <a:xfrm>
            <a:off x="1547640" y="274680"/>
            <a:ext cx="6359760" cy="42433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1" descr="Life on land"/>
          <p:cNvPicPr/>
          <p:nvPr/>
        </p:nvPicPr>
        <p:blipFill>
          <a:blip r:embed="rId2"/>
          <a:stretch/>
        </p:blipFill>
        <p:spPr>
          <a:xfrm>
            <a:off x="343080" y="4964040"/>
            <a:ext cx="1400040" cy="1400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808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4"/>
          <a:stretch/>
        </p:blipFill>
        <p:spPr>
          <a:xfrm>
            <a:off x="1979640" y="4869000"/>
            <a:ext cx="5775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78920" y="216000"/>
            <a:ext cx="669636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k-MK" sz="3200" spc="-1" strike="noStrike">
                <a:solidFill>
                  <a:srgbClr val="c00000"/>
                </a:solidFill>
                <a:latin typeface="Futura LT Book"/>
              </a:rPr>
              <a:t>Повеќекратни придобивки од </a:t>
            </a:r>
            <a:r>
              <a:rPr b="0" lang="en-US" sz="3200" spc="-1" strike="noStrike">
                <a:solidFill>
                  <a:srgbClr val="c00000"/>
                </a:solidFill>
                <a:latin typeface="Futura LT Book"/>
              </a:rPr>
              <a:t>L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250560" y="4149720"/>
            <a:ext cx="8569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Користење на земјиштет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– 25% 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глобалните емисии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(IPC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FOLU(</a:t>
            </a:r>
            <a:r>
              <a:rPr b="0" lang="mk-MK" sz="2000" spc="-1" strike="noStrike">
                <a:solidFill>
                  <a:srgbClr val="000000"/>
                </a:solidFill>
                <a:latin typeface="Franklin Gothic Medium"/>
              </a:rPr>
              <a:t>зем. шум и др.)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–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10.6GtCO2e/year by 20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Јаз (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Gap</a:t>
            </a: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 -18GtCO2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800" spc="-1" strike="noStrike">
                <a:solidFill>
                  <a:srgbClr val="000000"/>
                </a:solidFill>
                <a:latin typeface="Franklin Gothic Medium"/>
              </a:rPr>
              <a:t>Митигацискиот потенцијал на земјиштето не е искористен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1" descr=""/>
          <p:cNvPicPr/>
          <p:nvPr/>
        </p:nvPicPr>
        <p:blipFill>
          <a:blip r:embed="rId1"/>
          <a:stretch/>
        </p:blipFill>
        <p:spPr>
          <a:xfrm>
            <a:off x="2124000" y="808200"/>
            <a:ext cx="4479840" cy="3168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" descr="C:\Users\ANNAGY~1\AppData\Local\Temp\notesE038F8\logo_linear_colour options-08.png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6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597" name="Picture 30" descr="C:\Documents and Settings\voigt\Desktop\UNCCD Logo UN Logo_white rgb.png"/>
          <p:cNvPicPr/>
          <p:nvPr/>
        </p:nvPicPr>
        <p:blipFill>
          <a:blip r:embed="rId1"/>
          <a:stretch/>
        </p:blipFill>
        <p:spPr>
          <a:xfrm>
            <a:off x="7543800" y="304920"/>
            <a:ext cx="1262160" cy="5587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22"/>
          <p:cNvSpPr/>
          <p:nvPr/>
        </p:nvSpPr>
        <p:spPr>
          <a:xfrm>
            <a:off x="30240" y="304920"/>
            <a:ext cx="814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006600"/>
                </a:solidFill>
                <a:latin typeface="Franklin Gothic Demi"/>
              </a:rPr>
              <a:t>Главни одлуки кои повикуваат на </a:t>
            </a:r>
            <a:r>
              <a:rPr b="1" lang="en-US" sz="2800" spc="-1" strike="noStrike">
                <a:solidFill>
                  <a:srgbClr val="006600"/>
                </a:solidFill>
                <a:latin typeface="Franklin Gothic Demi"/>
              </a:rPr>
              <a:t>LD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9" name="Rectangle 1"/>
          <p:cNvSpPr/>
          <p:nvPr/>
        </p:nvSpPr>
        <p:spPr>
          <a:xfrm>
            <a:off x="2173320" y="1197000"/>
            <a:ext cx="693108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Franklin Gothic Medium"/>
              </a:rPr>
              <a:t>UNCCD COP 12 (O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ктомври</a:t>
            </a:r>
            <a:r>
              <a:rPr b="0" lang="de-DE" sz="2400" spc="-1" strike="noStrike">
                <a:solidFill>
                  <a:srgbClr val="000000"/>
                </a:solidFill>
                <a:latin typeface="Franklin Gothic Medium"/>
              </a:rPr>
              <a:t> 2015)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Беа поканите земјите членки на Конвенцијат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да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</a:rPr>
              <a:t>формулираат волонтерски цели за постигнување</a:t>
            </a:r>
            <a:r>
              <a:rPr b="0" lang="en-US" sz="2400" spc="-1" strike="noStrike">
                <a:solidFill>
                  <a:srgbClr val="ff0000"/>
                </a:solidFill>
                <a:latin typeface="Franklin Gothic Medium"/>
              </a:rPr>
              <a:t> 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во согласност со нивните специфични национални околности и развојни приоритет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Helvetica Neue"/>
              </a:rPr>
              <a:t>Беше побарано од телата на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UNCCD </a:t>
            </a:r>
            <a:r>
              <a:rPr b="0" lang="mk-MK" sz="2400" spc="-1" strike="noStrike">
                <a:solidFill>
                  <a:srgbClr val="000000"/>
                </a:solidFill>
                <a:latin typeface="Helvetica Neue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15000"/>
              </a:lnSpc>
              <a:buClr>
                <a:srgbClr val="3333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обезбедат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насоки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за формулирање на национални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цел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800280" indent="-343080">
              <a:lnSpc>
                <a:spcPct val="115000"/>
              </a:lnSpc>
              <a:buClr>
                <a:srgbClr val="3333c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Во соработка со други агенции да обезбедат </a:t>
            </a:r>
            <a:r>
              <a:rPr b="0" lang="mk-MK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научна и техничка поддршка</a:t>
            </a:r>
            <a:r>
              <a:rPr b="0" lang="en-US" sz="2400" spc="-1" strike="noStrike">
                <a:solidFill>
                  <a:srgbClr val="ff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земјите за имплементирање 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MS PGothic"/>
              </a:rPr>
              <a:t> LD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0" name="Picture 13" descr="C:\Users\Annagylyjova\Desktop\logo.png"/>
          <p:cNvPicPr/>
          <p:nvPr/>
        </p:nvPicPr>
        <p:blipFill>
          <a:blip r:embed="rId2"/>
          <a:stretch/>
        </p:blipFill>
        <p:spPr>
          <a:xfrm>
            <a:off x="228600" y="14130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804000" y="54000"/>
            <a:ext cx="234000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TextBox 1"/>
          <p:cNvSpPr/>
          <p:nvPr/>
        </p:nvSpPr>
        <p:spPr>
          <a:xfrm>
            <a:off x="324000" y="333360"/>
            <a:ext cx="8424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4" name="TextBox 2"/>
          <p:cNvSpPr/>
          <p:nvPr/>
        </p:nvSpPr>
        <p:spPr>
          <a:xfrm>
            <a:off x="32400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Franklin Gothic Medium"/>
              </a:rPr>
              <a:t>LDN </a:t>
            </a:r>
            <a:r>
              <a:rPr b="0" lang="mk-MK" sz="3200" spc="-1" strike="noStrike">
                <a:solidFill>
                  <a:srgbClr val="3366cc"/>
                </a:solidFill>
                <a:latin typeface="Franklin Gothic Medium"/>
              </a:rPr>
              <a:t>Пилот проекти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5" name="TextBox 3"/>
          <p:cNvSpPr/>
          <p:nvPr/>
        </p:nvSpPr>
        <p:spPr>
          <a:xfrm>
            <a:off x="179280" y="981000"/>
            <a:ext cx="907272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тестиран во 14 земј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UNCCD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рогрес индикатори и предложен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3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ндикатори з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глобални податоци и поставување н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основа за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baseline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дентификување на целите за постигнување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LDN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врзување со Националниот план за борба против опустинувањ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324000" y="3429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РЕЗУЛТАТ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-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добрено е обезбедувањето на глобални податоци за земјит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Често земјите располагаат со подобри податоц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Потреба од посебни национални индикатор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LDN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целите беа поставен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7" name="TextBox 6"/>
          <p:cNvSpPr/>
          <p:nvPr/>
        </p:nvSpPr>
        <p:spPr>
          <a:xfrm>
            <a:off x="539640" y="5589720"/>
            <a:ext cx="80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</a:rPr>
              <a:t>Извештаите од земјите се достапни на: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Franklin Gothic Medium"/>
              </a:rPr>
              <a:t>http://www.unccd.int/en/programmes/RioConventions/RioPlus20/Pages/LDN-Project-Country-Reports.aspx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08" name="Picture 8" descr=""/>
          <p:cNvPicPr/>
          <p:nvPr/>
        </p:nvPicPr>
        <p:blipFill>
          <a:blip r:embed="rId2"/>
          <a:stretch/>
        </p:blipFill>
        <p:spPr>
          <a:xfrm>
            <a:off x="6802560" y="0"/>
            <a:ext cx="23414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0087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5638680" y="3049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Medium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1" name="Text Box 6"/>
          <p:cNvSpPr/>
          <p:nvPr/>
        </p:nvSpPr>
        <p:spPr>
          <a:xfrm>
            <a:off x="181080" y="1484280"/>
            <a:ext cx="412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Franklin Gothic Demi"/>
              </a:rPr>
              <a:t>LDN </a:t>
            </a:r>
            <a:r>
              <a:rPr b="0" lang="mk-MK" sz="3200" spc="-1" strike="noStrike">
                <a:solidFill>
                  <a:srgbClr val="ffffff"/>
                </a:solidFill>
                <a:latin typeface="Franklin Gothic Demi"/>
              </a:rPr>
              <a:t>Концептуална рамка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2" name="Picture 11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94400" cy="52675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20"/>
          <p:cNvSpPr/>
          <p:nvPr/>
        </p:nvSpPr>
        <p:spPr>
          <a:xfrm>
            <a:off x="31680" y="2763720"/>
            <a:ext cx="469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Неутралност</a:t>
            </a: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 =“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нема нето загуби“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Се бара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: 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баланс помеѓу загубите и 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идобивките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Во однос на деградацијата на земјиштето</a:t>
            </a: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отивтежа на тековната деградација на земјиштето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(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загубите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Со реставрација на деградирано земјиште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 (</a:t>
            </a:r>
            <a:r>
              <a:rPr b="0" lang="mk-MK" sz="2400" spc="-1" strike="noStrike">
                <a:solidFill>
                  <a:srgbClr val="ffffff"/>
                </a:solidFill>
                <a:latin typeface="Franklin Gothic Medium"/>
              </a:rPr>
              <a:t>придобивки</a:t>
            </a:r>
            <a:r>
              <a:rPr b="0" lang="de-DE" sz="2400" spc="-1" strike="noStrike">
                <a:solidFill>
                  <a:srgbClr val="ffffff"/>
                </a:solidFill>
                <a:latin typeface="Franklin Gothic Medium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2"/>
          <a:stretch/>
        </p:blipFill>
        <p:spPr>
          <a:xfrm>
            <a:off x="217440" y="154080"/>
            <a:ext cx="4091040" cy="13302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C:\Users\ANNAGY~1\AppData\Local\Temp\notesE038F8\logo_linear_colour options-08.png"/>
          <p:cNvPicPr/>
          <p:nvPr/>
        </p:nvPicPr>
        <p:blipFill>
          <a:blip r:embed="rId3"/>
          <a:stretch/>
        </p:blipFill>
        <p:spPr>
          <a:xfrm>
            <a:off x="6797520" y="0"/>
            <a:ext cx="2340000" cy="8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17360" y="249120"/>
            <a:ext cx="1398600" cy="493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"/>
          <p:cNvPicPr/>
          <p:nvPr/>
        </p:nvPicPr>
        <p:blipFill>
          <a:blip r:embed="rId2"/>
          <a:stretch/>
        </p:blipFill>
        <p:spPr>
          <a:xfrm>
            <a:off x="7307280" y="254160"/>
            <a:ext cx="1297080" cy="4888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5" descr="Açıklama: CEM Logo İng"/>
          <p:cNvPicPr/>
          <p:nvPr/>
        </p:nvPicPr>
        <p:blipFill>
          <a:blip r:embed="rId3"/>
          <a:stretch/>
        </p:blipFill>
        <p:spPr>
          <a:xfrm>
            <a:off x="6629400" y="6002280"/>
            <a:ext cx="942840" cy="62712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0" descr=""/>
          <p:cNvPicPr/>
          <p:nvPr/>
        </p:nvPicPr>
        <p:blipFill>
          <a:blip r:embed="rId4"/>
          <a:stretch/>
        </p:blipFill>
        <p:spPr>
          <a:xfrm>
            <a:off x="4800600" y="5945040"/>
            <a:ext cx="660240" cy="8226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2" descr=""/>
          <p:cNvPicPr/>
          <p:nvPr/>
        </p:nvPicPr>
        <p:blipFill>
          <a:blip r:embed="rId5"/>
          <a:stretch/>
        </p:blipFill>
        <p:spPr>
          <a:xfrm>
            <a:off x="5486400" y="6027840"/>
            <a:ext cx="1143000" cy="7477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4" descr=""/>
          <p:cNvPicPr/>
          <p:nvPr/>
        </p:nvPicPr>
        <p:blipFill>
          <a:blip r:embed="rId6"/>
          <a:stretch/>
        </p:blipFill>
        <p:spPr>
          <a:xfrm>
            <a:off x="663480" y="5934240"/>
            <a:ext cx="746280" cy="7142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5" descr="https://www.thegef.org/gef/sites/thegef.org/files/Images/25ylogoshort-01.png"/>
          <p:cNvPicPr/>
          <p:nvPr/>
        </p:nvPicPr>
        <p:blipFill>
          <a:blip r:embed="rId7"/>
          <a:stretch/>
        </p:blipFill>
        <p:spPr>
          <a:xfrm>
            <a:off x="1488960" y="6021360"/>
            <a:ext cx="1067040" cy="666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UNEP Logo"/>
          <p:cNvPicPr/>
          <p:nvPr/>
        </p:nvPicPr>
        <p:blipFill>
          <a:blip r:embed="rId8"/>
          <a:stretch/>
        </p:blipFill>
        <p:spPr>
          <a:xfrm>
            <a:off x="2720880" y="6027840"/>
            <a:ext cx="479520" cy="5252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0" descr=""/>
          <p:cNvPicPr/>
          <p:nvPr/>
        </p:nvPicPr>
        <p:blipFill>
          <a:blip r:embed="rId9"/>
          <a:stretch/>
        </p:blipFill>
        <p:spPr>
          <a:xfrm>
            <a:off x="4038480" y="6027840"/>
            <a:ext cx="608040" cy="6015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2" descr=""/>
          <p:cNvPicPr/>
          <p:nvPr/>
        </p:nvPicPr>
        <p:blipFill>
          <a:blip r:embed="rId10"/>
          <a:stretch/>
        </p:blipFill>
        <p:spPr>
          <a:xfrm>
            <a:off x="3352680" y="5943600"/>
            <a:ext cx="533520" cy="8301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3" descr="C:\Users\User\AppData\Local\Temp\Rar$DIa0.165\ANKARA GIRISIM1 ing.jpg"/>
          <p:cNvPicPr/>
          <p:nvPr/>
        </p:nvPicPr>
        <p:blipFill>
          <a:blip r:embed="rId11"/>
          <a:stretch/>
        </p:blipFill>
        <p:spPr>
          <a:xfrm>
            <a:off x="7724880" y="6000840"/>
            <a:ext cx="657000" cy="55224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"/>
          <p:cNvSpPr/>
          <p:nvPr/>
        </p:nvSpPr>
        <p:spPr>
          <a:xfrm>
            <a:off x="1069920" y="498600"/>
            <a:ext cx="6918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k-MK" sz="2800" spc="-1" strike="noStrike">
                <a:solidFill>
                  <a:srgbClr val="254061"/>
                </a:solidFill>
                <a:latin typeface="Calibri"/>
              </a:rPr>
              <a:t>НЕУТРАЛНОСТ НА ДЕГРАДАЦИЈАТА НА ЗЕМЈИШТЕТО – ПРОГРАМА ЗА ПОСТАВУВАЊЕ НА ЦЕЛИТЕ</a:t>
            </a:r>
            <a:r>
              <a:rPr b="1" lang="en-US" sz="2800" spc="-1" strike="noStrike">
                <a:solidFill>
                  <a:srgbClr val="254061"/>
                </a:solidFill>
                <a:latin typeface="Calibri"/>
              </a:rPr>
              <a:t> (LDN-TSP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628" name="Picture 13" descr=""/>
          <p:cNvPicPr/>
          <p:nvPr/>
        </p:nvPicPr>
        <p:blipFill>
          <a:blip r:embed="rId12"/>
          <a:stretch/>
        </p:blipFill>
        <p:spPr>
          <a:xfrm>
            <a:off x="1482840" y="1914480"/>
            <a:ext cx="6091200" cy="2592360"/>
          </a:xfrm>
          <a:prstGeom prst="rect">
            <a:avLst/>
          </a:prstGeom>
          <a:ln w="0">
            <a:noFill/>
          </a:ln>
        </p:spPr>
      </p:pic>
      <p:sp>
        <p:nvSpPr>
          <p:cNvPr id="629" name="TextBox 1"/>
          <p:cNvSpPr/>
          <p:nvPr/>
        </p:nvSpPr>
        <p:spPr>
          <a:xfrm>
            <a:off x="479520" y="450864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Администрирана од Глобалниот Механизам на 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UNCCD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100+ </a:t>
            </a:r>
            <a:r>
              <a:rPr b="0" lang="mk-MK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земји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Поддршка на процесот управуван од земјите учеснички</a:t>
            </a:r>
            <a:r>
              <a:rPr b="0" lang="en-US" sz="2400" spc="-1" strike="noStrike">
                <a:solidFill>
                  <a:srgbClr val="000000"/>
                </a:solidFill>
                <a:latin typeface="Franklin Gothic Medium"/>
                <a:ea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55640" y="4149360"/>
            <a:ext cx="74152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Регионална подготвителна работилница во Батуми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, </a:t>
            </a: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Грузија</a:t>
            </a:r>
            <a:br>
              <a:rPr sz="1800"/>
            </a:b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9-10 J</a:t>
            </a:r>
            <a:r>
              <a:rPr b="1" lang="mk-MK" sz="1800" spc="-1" strike="noStrike">
                <a:solidFill>
                  <a:srgbClr val="254061"/>
                </a:solidFill>
                <a:latin typeface="Calibri"/>
              </a:rPr>
              <a:t>уни</a:t>
            </a:r>
            <a:r>
              <a:rPr b="1" lang="en-US" sz="1800" spc="-1" strike="noStrike">
                <a:solidFill>
                  <a:srgbClr val="254061"/>
                </a:solidFill>
                <a:latin typeface="Calibri"/>
              </a:rPr>
              <a:t> 201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5472000" cy="364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2" name=""/>
          <p:cNvGraphicFramePr/>
          <p:nvPr/>
        </p:nvGraphicFramePr>
        <p:xfrm>
          <a:off x="900000" y="4724280"/>
          <a:ext cx="7417080" cy="174780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  <a:gridCol w="185436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ербејџ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на Г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ра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рме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сна и Херцегов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дав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лору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едон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рги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б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бекистан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324000" y="836640"/>
          <a:ext cx="8569080" cy="4992840"/>
        </p:xfrm>
        <a:graphic>
          <a:graphicData uri="http://schemas.openxmlformats.org/drawingml/2006/table">
            <a:tbl>
              <a:tblPr/>
              <a:tblGrid>
                <a:gridCol w="2334960"/>
                <a:gridCol w="6234120"/>
              </a:tblGrid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емвр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на за вклучување во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-TSP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ратена до Министерствата одговорни з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C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1224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J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л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адење на капацитет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а одржани четири регионални подготвителни работилниц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02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1224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гус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к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жности за поддршка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ни работни груп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5.3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 приоретизира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GCF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ионални иницијативи, формиран посебен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он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ување на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бални податоци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шна покривка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C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уктивност на земјиште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ски јаглерод во почват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екоја зем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пирани се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новата и трендови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авување на мерливи и временски ограничен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ни волонтерск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 </a:t>
                      </a: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дентификување на посебни мерки за постигнување на овие ц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–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пт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ирање н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пирани се можностите за трансформациски проекти за секоја земја, други изво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  <a:tr h="63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птемвр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P 13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јит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ги претставуваат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DN </a:t>
                      </a:r>
                      <a:r>
                        <a:rPr b="0" lang="mk-M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елите и соодветните ме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ranklin Gothic Medium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34" name="Group 5"/>
          <p:cNvGrpSpPr/>
          <p:nvPr/>
        </p:nvGrpSpPr>
        <p:grpSpPr>
          <a:xfrm>
            <a:off x="689040" y="5783400"/>
            <a:ext cx="7686720" cy="831600"/>
            <a:chOff x="689040" y="5783400"/>
            <a:chExt cx="7686720" cy="831600"/>
          </a:xfrm>
        </p:grpSpPr>
        <p:pic>
          <p:nvPicPr>
            <p:cNvPr id="635" name="Picture 6" descr="Açıklama: CEM Logo İng"/>
            <p:cNvPicPr/>
            <p:nvPr/>
          </p:nvPicPr>
          <p:blipFill>
            <a:blip r:embed="rId1"/>
            <a:stretch/>
          </p:blipFill>
          <p:spPr>
            <a:xfrm>
              <a:off x="6623640" y="5842080"/>
              <a:ext cx="943200" cy="6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6" name="Picture 7" descr=""/>
            <p:cNvPicPr/>
            <p:nvPr/>
          </p:nvPicPr>
          <p:blipFill>
            <a:blip r:embed="rId2"/>
            <a:stretch/>
          </p:blipFill>
          <p:spPr>
            <a:xfrm>
              <a:off x="4794840" y="5784480"/>
              <a:ext cx="659520" cy="82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Picture 8" descr=""/>
            <p:cNvPicPr/>
            <p:nvPr/>
          </p:nvPicPr>
          <p:blipFill>
            <a:blip r:embed="rId3"/>
            <a:stretch/>
          </p:blipFill>
          <p:spPr>
            <a:xfrm>
              <a:off x="5480640" y="5868000"/>
              <a:ext cx="1142640" cy="74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9" descr=""/>
            <p:cNvPicPr/>
            <p:nvPr/>
          </p:nvPicPr>
          <p:blipFill>
            <a:blip r:embed="rId4"/>
            <a:stretch/>
          </p:blipFill>
          <p:spPr>
            <a:xfrm>
              <a:off x="689040" y="5820480"/>
              <a:ext cx="74520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0" descr="https://www.thegef.org/gef/sites/thegef.org/files/Images/25ylogoshort-01.png"/>
            <p:cNvPicPr/>
            <p:nvPr/>
          </p:nvPicPr>
          <p:blipFill>
            <a:blip r:embed="rId5"/>
            <a:stretch/>
          </p:blipFill>
          <p:spPr>
            <a:xfrm>
              <a:off x="1483920" y="5861880"/>
              <a:ext cx="106668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11" descr="UNEP Logo"/>
            <p:cNvPicPr/>
            <p:nvPr/>
          </p:nvPicPr>
          <p:blipFill>
            <a:blip r:embed="rId6"/>
            <a:stretch/>
          </p:blipFill>
          <p:spPr>
            <a:xfrm>
              <a:off x="2714760" y="5868000"/>
              <a:ext cx="4798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12" descr=""/>
            <p:cNvPicPr/>
            <p:nvPr/>
          </p:nvPicPr>
          <p:blipFill>
            <a:blip r:embed="rId7"/>
            <a:stretch/>
          </p:blipFill>
          <p:spPr>
            <a:xfrm>
              <a:off x="4033080" y="5868000"/>
              <a:ext cx="608040" cy="60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13" descr=""/>
            <p:cNvPicPr/>
            <p:nvPr/>
          </p:nvPicPr>
          <p:blipFill>
            <a:blip r:embed="rId8"/>
            <a:stretch/>
          </p:blipFill>
          <p:spPr>
            <a:xfrm>
              <a:off x="3347280" y="5783400"/>
              <a:ext cx="53316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4" descr="C:\Users\User\AppData\Local\Temp\Rar$DIa0.165\ANKARA GIRISIM1 ing.jpg"/>
            <p:cNvPicPr/>
            <p:nvPr/>
          </p:nvPicPr>
          <p:blipFill>
            <a:blip r:embed="rId9"/>
            <a:stretch/>
          </p:blipFill>
          <p:spPr>
            <a:xfrm>
              <a:off x="7718760" y="5840640"/>
              <a:ext cx="657000" cy="55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" name="TextBox 1"/>
          <p:cNvSpPr/>
          <p:nvPr/>
        </p:nvSpPr>
        <p:spPr>
          <a:xfrm>
            <a:off x="108000" y="0"/>
            <a:ext cx="53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LDN Target Setting  Programm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6:23:12Z</dcterms:created>
  <dc:creator>voigt</dc:creator>
  <dc:description/>
  <dc:language>en-US</dc:language>
  <cp:lastModifiedBy>Vesna Indova</cp:lastModifiedBy>
  <cp:lastPrinted>2017-02-27T14:43:46Z</cp:lastPrinted>
  <dcterms:modified xsi:type="dcterms:W3CDTF">2017-02-27T15:38:35Z</dcterms:modified>
  <cp:revision>294</cp:revision>
  <dc:subject/>
  <dc:title>PowerPoint Presentation</dc:title>
</cp:coreProperties>
</file>